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97E9-38B2-4DE9-A9CE-488508B1E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FD0F-BB35-424C-B904-F8003BDC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1D24-25EC-44F9-B391-A376FE3F3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292F-0978-44D2-A3A7-051281B51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535D-26A7-458C-BB36-DCBF8FDC7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AC39-18DB-4447-BB53-FFC82940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F355-C7FC-48C2-9FE9-A061A5D8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9E36-2052-469D-A753-5BB28402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44A9-8474-4410-AD7C-1ECA1C9D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817B-D814-4C8D-9C89-6A800A75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6E78-1E61-42A7-A826-3AFF6B68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1069-BC76-45BF-8A05-342A7C08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2133-C108-4C27-989D-3B54B29D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E7BC-B5C7-4CC3-8BB6-FB21D9AF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0263-B372-4AB2-8C17-495E0764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D59C-F326-4EC4-B58D-75EF65894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901C-B1E3-4869-BB4A-9B621FF50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0C648-6A00-4C2F-BC52-BA7A0D294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500BC-5659-47E6-8503-AD0BF630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0EEAB-296D-435C-967E-B8ED1856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DA26A-8575-4AE0-A1C3-C8C2D130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07724-CFD3-4579-8228-9D8AAE00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4358-1C59-4690-B984-871DEB77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2AF83-9001-452A-8406-D1C4E365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BB53F-026C-4782-B5A3-9F97598D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A6E3A-3DFE-42F5-BEF7-DD5F9F67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6FCD6-D383-4513-83B3-730A77D4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6E57D-946B-4B72-BFC9-DF60C789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3B03B-94F7-480E-BC9F-6B749416A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3B69E-E907-43ED-9B6F-3BA310303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6704-C4AF-4C88-93C2-50EBDD48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DADB-32FB-4759-BD8D-3ABA49BE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A943-E17A-41F6-BEF4-80EED3F6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6032-7EB9-46CF-9DB6-17A987B0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FCE4-E5E1-496B-B94C-346DCC7F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6CDE-EF6E-4DB1-8575-247CAAD7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B00A-561D-4246-81EF-E5DF277A8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9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9c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95F2-92A6-4008-B87C-9893EF5B4A9A}" type="slidenum">
              <a:rPr b="0" lang="en-US" sz="1000" spc="-1" strike="noStrike">
                <a:solidFill>
                  <a:srgbClr val="fff9c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9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F406-E750-4D45-B7A1-C207879EBEA1}" type="slidenum">
              <a:rPr b="0" lang="en-US" sz="1000" spc="-1" strike="noStrike">
                <a:solidFill>
                  <a:srgbClr val="cc9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99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99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10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Minors &amp; Medicine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80880" y="2057040"/>
            <a:ext cx="4724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Aaron Fleming 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Alex Stone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Ava Tompkins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Brad Herzlich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Sociologi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Lawy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Scient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Educ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724280" y="2666880"/>
            <a:ext cx="28576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6:10:51Z</dcterms:created>
  <dc:creator>Fl</dc:creator>
  <dc:description/>
  <cp:keywords/>
  <dc:language>en-US</dc:language>
  <cp:lastModifiedBy>Fl</cp:lastModifiedBy>
  <dcterms:modified xsi:type="dcterms:W3CDTF">2008-05-21T16:30:47Z</dcterms:modified>
  <cp:revision>2</cp:revision>
  <dc:subject/>
  <dc:title>Minors &amp; Medici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51033</vt:lpwstr>
  </property>
</Properties>
</file>